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slider22.wav" ContentType="audio/x-wav"/>
  <Override PartName="/ppt/media/bserie06.wav" ContentType="audio/x-wav"/>
  <Override PartName="/ppt/media/jetflyby2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EC5-1367-4D56-90EE-4B9FD040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24B-AF84-4874-8BAB-14792DFF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C01-CE6A-4AA1-B261-0AE4F307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85A-E580-4BA2-81D5-36B3E2A2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506-8FEA-40C6-9534-247C5AD5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A5A-1393-468A-B31F-28D9572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3D8-49BE-440A-8391-D2EDBA71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E1B-2567-41B0-9851-D73DB1B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29F-884D-44BF-94BF-0A646621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B25-2502-4C92-9BC1-DA77F7DB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833-502B-401E-BA11-D96E220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40B-EB06-4E64-BAB8-480C9F03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9AC-28E6-47EA-9F63-706346DF5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lider22.wav"/><Relationship Id="rId3" Type="http://schemas.openxmlformats.org/officeDocument/2006/relationships/audio" Target="../media/slider2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lider22.wav"/><Relationship Id="rId3" Type="http://schemas.openxmlformats.org/officeDocument/2006/relationships/audio" Target="../media/slider2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slider22.wav"/><Relationship Id="rId4" Type="http://schemas.openxmlformats.org/officeDocument/2006/relationships/audio" Target="../media/slider22.wav"/><Relationship Id="rId5" Type="http://schemas.openxmlformats.org/officeDocument/2006/relationships/audio" Target="../media/slider2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6880" y="1479600"/>
                <a:ext cx="3992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100320" y="2324160"/>
                <a:ext cx="579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06520" y="2197080"/>
                <a:ext cx="2695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49520" y="2986200"/>
                <a:ext cx="1442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0280" y="3854520"/>
                <a:ext cx="4989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02160" y="4548240"/>
                <a:ext cx="5144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46080" y="4543560"/>
                <a:ext cx="3583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46320" y="6105600"/>
                <a:ext cx="1420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54360" y="3792600"/>
                <a:ext cx="4208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91120" y="5332320"/>
                <a:ext cx="514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09760" y="5327640"/>
                <a:ext cx="27525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0040" y="1419120"/>
                <a:ext cx="7783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848040" y="2965320"/>
                <a:ext cx="9432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51040" y="2911320"/>
                <a:ext cx="301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47840" y="3894120"/>
                <a:ext cx="17971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36720" y="2179800"/>
                <a:ext cx="3992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738680" y="2892600"/>
                <a:ext cx="3643200" cy="94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094280" y="3894120"/>
                <a:ext cx="154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91040" y="2178000"/>
                <a:ext cx="298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9280" y="1400040"/>
                <a:ext cx="8523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43360" y="3097080"/>
                <a:ext cx="7714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8120" y="3116160"/>
                <a:ext cx="3764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71720" y="4081320"/>
                <a:ext cx="2089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66640" y="2170080"/>
                <a:ext cx="451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8250120" y="3305160"/>
                <a:ext cx="55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855960" y="4118040"/>
                <a:ext cx="2006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72000" y="3083040"/>
                <a:ext cx="38149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43520" y="2233440"/>
                <a:ext cx="39132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68280" y="1442880"/>
                <a:ext cx="8116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74680" y="2270160"/>
                <a:ext cx="5168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36520" y="3295800"/>
                <a:ext cx="5222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429160" y="3279600"/>
                <a:ext cx="16304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415120" y="2184480"/>
                <a:ext cx="3728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26880" y="1379520"/>
                <a:ext cx="82281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125880" y="3132000"/>
                <a:ext cx="728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6920" y="3213000"/>
                <a:ext cx="2962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6560" y="4143240"/>
                <a:ext cx="16286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3880" y="2214720"/>
                <a:ext cx="338796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865680" y="3225960"/>
                <a:ext cx="18018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16480" y="4183200"/>
                <a:ext cx="1965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6480" y="3195720"/>
                <a:ext cx="3375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735360" y="2236680"/>
                <a:ext cx="18954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29320" y="2236680"/>
                <a:ext cx="31050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483160" y="4181400"/>
                <a:ext cx="1630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281640" y="1293840"/>
                <a:ext cx="4208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29, 5 – 9 #1-14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0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01T14:25:46Z</dcterms:modified>
  <cp:revision>58</cp:revision>
  <dc:subject/>
  <dc:title>Slide 1</dc:title>
</cp:coreProperties>
</file>